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1DB-2614-4161-A8E7-05EA2744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224-960F-454D-972E-46D24B3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903-D6D1-4F4E-958B-498FFCC1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20B-7E16-497A-87FA-51CDFB44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75C-C2DD-4406-A8E1-C4EEC66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65-9CB9-48C8-B52C-F7B2A78E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0E6-CAD1-4E07-BD0B-4FF1F6EC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491-3082-4A3B-9A76-774B0C8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1F7-BFF9-4D59-B078-5775331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FC5-053F-43F8-A173-AAB96B8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730-8172-4A9D-8025-B5B64DD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FD4-95EE-4F35-8CC8-8DD350D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12F-36FB-4E45-8A03-0E4DBC703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 New Conservati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69–198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VI7233704"/>
          <p:cNvPicPr/>
          <p:nvPr/>
        </p:nvPicPr>
        <p:blipFill>
          <a:blip r:embed="rId2"/>
          <a:stretch/>
        </p:blipFill>
        <p:spPr>
          <a:xfrm>
            <a:off x="2257560" y="533520"/>
            <a:ext cx="47257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8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DIVI7233TB3201"/>
          <p:cNvPicPr/>
          <p:nvPr/>
        </p:nvPicPr>
        <p:blipFill>
          <a:blip r:embed="rId2"/>
          <a:srcRect l="0" t="15847" r="0" b="0"/>
          <a:stretch/>
        </p:blipFill>
        <p:spPr>
          <a:xfrm>
            <a:off x="228600" y="2438280"/>
            <a:ext cx="84582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nald Reag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: “Are you better off now than you were 4 years ago?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744120" indent="-318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gan blamed country’s economic problems on high government spending (Keynesia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omics/Supply-side economics—cut taxes to encourage productive private investment (more jobs more tax revenu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Geneva"/>
              </a:rPr>
              <a:t>Deregulation: Many regulations reduc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ivil Rights not a priority (Women, Homosexuals, and African American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jor military expansion under Reag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gan escalates arms ra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DI initiat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frontation in Central Ameri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stable governments (U.S. interventio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ran-Contra Affai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ore trouble in the Middle E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pport of Israe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banon disast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ld War eases/end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985–1988: Reagan-Gorbachev summ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Trends in American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al Right preaches against the decay of society because of liberal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ditional American family gave way to more diverse living arrang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orce rates 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uble income famil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gle-parent househol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ay Liberation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DS epidemi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ains and setbacks for Wo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e v. W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ndra Day O’Conn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qual Rights Amendment fai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DIVI7233692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608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IVI7233691"/>
          <p:cNvPicPr/>
          <p:nvPr/>
        </p:nvPicPr>
        <p:blipFill>
          <a:blip r:embed="rId3"/>
          <a:stretch/>
        </p:blipFill>
        <p:spPr>
          <a:xfrm>
            <a:off x="1905120" y="990720"/>
            <a:ext cx="5219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IVI"/>
          <p:cNvPicPr/>
          <p:nvPr/>
        </p:nvPicPr>
        <p:blipFill>
          <a:blip r:embed="rId2"/>
          <a:srcRect l="1664" t="2538" r="2429" b="4236"/>
          <a:stretch/>
        </p:blipFill>
        <p:spPr>
          <a:xfrm>
            <a:off x="380880" y="1752480"/>
            <a:ext cx="848376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IVI"/>
          <p:cNvPicPr/>
          <p:nvPr/>
        </p:nvPicPr>
        <p:blipFill>
          <a:blip r:embed="rId3"/>
          <a:srcRect l="1083" t="2464" r="1849" b="2464"/>
          <a:stretch/>
        </p:blipFill>
        <p:spPr>
          <a:xfrm>
            <a:off x="762120" y="1447920"/>
            <a:ext cx="758484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ouble Spots in Central America and the Caribbean and Middle E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VI7233675"/>
          <p:cNvPicPr/>
          <p:nvPr/>
        </p:nvPicPr>
        <p:blipFill>
          <a:blip r:embed="rId2"/>
          <a:stretch/>
        </p:blipFill>
        <p:spPr>
          <a:xfrm>
            <a:off x="2209680" y="609480"/>
            <a:ext cx="4513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IVI7233683"/>
          <p:cNvPicPr/>
          <p:nvPr/>
        </p:nvPicPr>
        <p:blipFill>
          <a:blip r:embed="rId2"/>
          <a:stretch/>
        </p:blipFill>
        <p:spPr>
          <a:xfrm>
            <a:off x="1905120" y="304920"/>
            <a:ext cx="5268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ard Nix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mited success in domestic poli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anded some federal programs (EPA, affirmative action, etc…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ifts public perception of responsibility of White House by instituting  “New Federalism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tergate scandal 197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retapping by Nixon supporters in the Watergate Compl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odward and Bernstein (Washington Post) began writing about story (received information from “Deep Throat”/Mark Fe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igation by Congress eventually leads to Nixon’s resignation  (197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étente—relaxation of tensions with Soviets by making friends with China (pitted the two superpowers against each oth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rought about Strategic Arms Limitation Treaty of 1972 (SAL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eates a plan to end Vietnam War with hon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0: spreads war to Laos and Cambodia which brings violent outbreaks back home (Kent Stat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ruce signed in 1973: U.S. withdraws, North Vietnamese remain in Sou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5: North Vietnam goes against truce reuniting the Vietnams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973: Yom Kippur Wa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C cut oil production 5% per month until Israel gave up occupied land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.S. realized vulnerability of increasing dependence on foreign oi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rald Fo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doned Richard Nix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wing Stagflation-Prices rose and real incomes fell (mid 70’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lation driven by oil prices, Federal budget deficits, global food shor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ord-high interest r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sed Democratic bills protecting the environment and civil righ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d foreign relations with 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sinki Accord (1975)-Improve relations between the West and the Soviet Un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il Shocks:  Price Increases of Crude Oil and Gasoline, 1973–19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DIVI669"/>
          <p:cNvPicPr/>
          <p:nvPr/>
        </p:nvPicPr>
        <p:blipFill>
          <a:blip r:embed="rId2"/>
          <a:stretch/>
        </p:blipFill>
        <p:spPr>
          <a:xfrm>
            <a:off x="457200" y="2286000"/>
            <a:ext cx="815328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7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DIVI7233TB3101"/>
          <p:cNvPicPr/>
          <p:nvPr/>
        </p:nvPicPr>
        <p:blipFill>
          <a:blip r:embed="rId2"/>
          <a:srcRect l="0" t="15725" r="0" b="0"/>
          <a:stretch/>
        </p:blipFill>
        <p:spPr>
          <a:xfrm>
            <a:off x="457200" y="2819520"/>
            <a:ext cx="8229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mmy C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recess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inflation and high un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government spending and high interest 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economic growth slow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share of world markets declined (Steel Industry, Automobile, etc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technology prospered and big business diversif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ustry shifted from East and Midwest to Sunb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19360" y="2174760"/>
            <a:ext cx="4724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p David Accords 1978: Peace between Israel and Egy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in America involv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1979: Refused aid to Nicaraguan government against Sandinistas but assisted El Salvador against Marxist rebel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anian Revolution of 197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homeini led Islamic fundamentalist and seized U.S. embassy and held 52 hostages after U.S. allowed deposed Shah into U.S. for medical treat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79: Soviets invade Afghani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pse of Déten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rter’s emphasis on human rights seen as repudiation of Détent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6:09:03Z</dcterms:created>
  <dc:creator>CMU</dc:creator>
  <dc:description/>
  <cp:keywords/>
  <dc:language>en-US</dc:language>
  <cp:lastModifiedBy>Thaddeus J. Brooks</cp:lastModifiedBy>
  <cp:lastPrinted>2008-10-31T13:01:12Z</cp:lastPrinted>
  <dcterms:modified xsi:type="dcterms:W3CDTF">2013-10-28T14:23:38Z</dcterms:modified>
  <cp:revision>58</cp:revision>
  <dc:subject/>
  <dc:title>CHAPTER 32 A CRISIS IN CONFIDENCE, 1969-1980</dc:title>
</cp:coreProperties>
</file>